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0.wmf" ContentType="image/x-wmf"/>
  <Override PartName="/ppt/media/image7.gif" ContentType="image/gif"/>
  <Override PartName="/ppt/media/image9.wmf" ContentType="image/x-wmf"/>
  <Override PartName="/ppt/media/image5.jpeg" ContentType="image/jpeg"/>
  <Override PartName="/ppt/media/image11.wmf" ContentType="image/x-wmf"/>
  <Override PartName="/ppt/media/image3.jpeg" ContentType="image/jpeg"/>
  <Override PartName="/ppt/media/image28.wmf" ContentType="image/x-wmf"/>
  <Override PartName="/ppt/media/image14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10.wmf" ContentType="image/x-wmf"/>
  <Override PartName="/ppt/media/image29.png" ContentType="image/png"/>
  <Override PartName="/ppt/media/chimes.wav" ContentType="audio/x-wav"/>
  <Override PartName="/ppt/media/image2.jpeg" ContentType="image/jpeg"/>
  <Override PartName="/ppt/media/image1.jpeg" ContentType="image/jpeg"/>
  <Override PartName="/ppt/media/image15.wmf" ContentType="image/x-wmf"/>
  <Override PartName="/ppt/media/image12.wmf" ContentType="image/x-wmf"/>
  <Override PartName="/ppt/media/image13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18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C25-4D18-41E7-8026-A823254A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740-926B-4E0E-9DB9-324C8E4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E45-B98D-4601-97AF-3DA3E408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6D6-4CB3-42A8-A35B-A0358217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1BBA-AE41-4433-84E2-552034F6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B4EA-DCFB-4D91-80B5-C3DE5EB8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612E-3246-4AF7-94F6-619B02E5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F1C4-0D3D-42D3-BB32-3FBC666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F80C-6AF1-4006-BF4B-131200F8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D6A2-E74B-489B-AFA2-1AB2D3E7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025D-828C-4516-9728-D9C380C7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4A8-7125-421B-A3E9-BA209B7F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218E-91E9-438A-B741-CC059FE8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50C2-F9A9-4873-87AB-A1858997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ECC1-D01C-40CB-AF7F-FE4698FC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B05C-567B-450C-BEF5-BF15D2BC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5B8D-88CC-4529-AF81-3F6A69BC8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D11-0575-4066-A8AE-99E86F7B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DE9-EA1C-48A6-B1B0-B6C11F7A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3A1-6309-4B47-9F02-F22E7D7B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E72-428E-4667-A301-59984675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7FBC-9FA7-4189-93EF-0D3F4595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830-7D5A-4D2B-B9D4-FFF9F06F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F43-984F-4CEE-8C92-379EA574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f"/>
            </a:gs>
            <a:gs pos="100000">
              <a:srgbClr val="f0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98F5-5E3D-4CC3-851D-8A34CB4F02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f"/>
            </a:gs>
            <a:gs pos="100000">
              <a:srgbClr val="f0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3B8F-BA82-4208-B062-F0B79A482441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25441201&amp;tn=baiduimagedetail&amp;word=&#22826;&#38451;&#21319;&#36215;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.baidu.com/i?ct=503316480&amp;z=102242952&amp;tn=baiduimagedetail&amp;word=&#22826;&#38451;&#21319;&#36215;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.baidu.com/i?ct=503316480&amp;z=442933150&amp;tn=baiduimagedetail&amp;word=&#22826;&#38451;&#21319;&#36215;" TargetMode="External"/><Relationship Id="rId6" Type="http://schemas.openxmlformats.org/officeDocument/2006/relationships/image" Target="../media/image3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58572652&amp;tn=baiduimagedetail&amp;word=&#22826;&#38451;&#33853;&#23665;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.baidu.com/i?ct=503316480&amp;z=68846200&amp;tn=baiduimagedetail&amp;word=&#22826;&#38451;&#33853;&#23665;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.baidu.com/i?ct=503316480&amp;z=1084762501&amp;tn=baiduimagedetail&amp;word=&#22826;&#38451;&#33853;&#23665;" TargetMode="External"/><Relationship Id="rId6" Type="http://schemas.openxmlformats.org/officeDocument/2006/relationships/image" Target="../media/image6.jpeg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835280" y="2060640"/>
            <a:ext cx="5572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直线与圆的位置关系</a:t>
            </a:r>
            <a:endParaRPr b="0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4"/>
          <p:cNvGrpSpPr/>
          <p:nvPr/>
        </p:nvGrpSpPr>
        <p:grpSpPr>
          <a:xfrm>
            <a:off x="0" y="549360"/>
            <a:ext cx="2376360" cy="1224000"/>
            <a:chOff x="0" y="549360"/>
            <a:chExt cx="2376360" cy="1224000"/>
          </a:xfrm>
        </p:grpSpPr>
        <p:sp>
          <p:nvSpPr>
            <p:cNvPr id="135" name="Oval 4"/>
            <p:cNvSpPr/>
            <p:nvPr/>
          </p:nvSpPr>
          <p:spPr>
            <a:xfrm>
              <a:off x="395280" y="54936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0" y="549360"/>
              <a:ext cx="2376360" cy="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5651640" y="2349360"/>
            <a:ext cx="2376360" cy="1224000"/>
            <a:chOff x="5651640" y="2349360"/>
            <a:chExt cx="2376360" cy="1224000"/>
          </a:xfrm>
        </p:grpSpPr>
        <p:sp>
          <p:nvSpPr>
            <p:cNvPr id="138" name="Oval 5"/>
            <p:cNvSpPr/>
            <p:nvPr/>
          </p:nvSpPr>
          <p:spPr>
            <a:xfrm>
              <a:off x="6227640" y="234936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5651640" y="3284640"/>
              <a:ext cx="2376360" cy="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250920" y="4724280"/>
            <a:ext cx="2376360" cy="1440000"/>
            <a:chOff x="250920" y="4724280"/>
            <a:chExt cx="2376360" cy="1440000"/>
          </a:xfrm>
        </p:grpSpPr>
        <p:sp>
          <p:nvSpPr>
            <p:cNvPr id="141" name="Oval 6"/>
            <p:cNvSpPr/>
            <p:nvPr/>
          </p:nvSpPr>
          <p:spPr>
            <a:xfrm>
              <a:off x="826920" y="494028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50920" y="4724280"/>
              <a:ext cx="2376360" cy="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3" name="Text Box 10"/>
          <p:cNvSpPr/>
          <p:nvPr/>
        </p:nvSpPr>
        <p:spPr>
          <a:xfrm>
            <a:off x="2031840" y="100008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唯一个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叫做直线和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相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74600" y="2997360"/>
            <a:ext cx="34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两个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叫做直线和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相交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976200" y="532116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直线和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没有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公共点时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叫做直线和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相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05000" y="40384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直线和圆有唯一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086600" y="4038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119320" y="3213000"/>
            <a:ext cx="41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直线与圆有两个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012760" y="4516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这时直线叫圆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733920" y="4495680"/>
            <a:ext cx="11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切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30764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1042920" y="0"/>
            <a:ext cx="7483680" cy="2476440"/>
            <a:chOff x="1042920" y="0"/>
            <a:chExt cx="7483680" cy="2476440"/>
          </a:xfrm>
        </p:grpSpPr>
        <p:grpSp>
          <p:nvGrpSpPr>
            <p:cNvPr id="153" name="Group 11"/>
            <p:cNvGrpSpPr/>
            <p:nvPr/>
          </p:nvGrpSpPr>
          <p:grpSpPr>
            <a:xfrm>
              <a:off x="1042920" y="0"/>
              <a:ext cx="7483680" cy="2476440"/>
              <a:chOff x="1042920" y="0"/>
              <a:chExt cx="7483680" cy="2476440"/>
            </a:xfrm>
          </p:grpSpPr>
          <p:grpSp>
            <p:nvGrpSpPr>
              <p:cNvPr id="154" name="Group 12"/>
              <p:cNvGrpSpPr/>
              <p:nvPr/>
            </p:nvGrpSpPr>
            <p:grpSpPr>
              <a:xfrm>
                <a:off x="1042920" y="0"/>
                <a:ext cx="7483680" cy="2476440"/>
                <a:chOff x="1042920" y="0"/>
                <a:chExt cx="7483680" cy="2476440"/>
              </a:xfrm>
            </p:grpSpPr>
            <p:grpSp>
              <p:nvGrpSpPr>
                <p:cNvPr id="155" name="Group 13"/>
                <p:cNvGrpSpPr/>
                <p:nvPr/>
              </p:nvGrpSpPr>
              <p:grpSpPr>
                <a:xfrm>
                  <a:off x="1515960" y="1181160"/>
                  <a:ext cx="1295640" cy="1295280"/>
                  <a:chOff x="1515960" y="1181160"/>
                  <a:chExt cx="1295640" cy="1295280"/>
                </a:xfrm>
              </p:grpSpPr>
              <p:sp>
                <p:nvSpPr>
                  <p:cNvPr id="156" name="Oval 14"/>
                  <p:cNvSpPr/>
                  <p:nvPr/>
                </p:nvSpPr>
                <p:spPr>
                  <a:xfrm>
                    <a:off x="1515960" y="1181160"/>
                    <a:ext cx="1295640" cy="1295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15"/>
                  <p:cNvSpPr/>
                  <p:nvPr/>
                </p:nvSpPr>
                <p:spPr>
                  <a:xfrm>
                    <a:off x="2049480" y="133344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Line 16"/>
                <p:cNvSpPr/>
                <p:nvPr/>
              </p:nvSpPr>
              <p:spPr>
                <a:xfrm>
                  <a:off x="1135080" y="2247840"/>
                  <a:ext cx="7391520" cy="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59" name="Group 17"/>
                <p:cNvGrpSpPr/>
                <p:nvPr/>
              </p:nvGrpSpPr>
              <p:grpSpPr>
                <a:xfrm>
                  <a:off x="3878280" y="952560"/>
                  <a:ext cx="1295280" cy="1295280"/>
                  <a:chOff x="3878280" y="952560"/>
                  <a:chExt cx="1295280" cy="1295280"/>
                </a:xfrm>
              </p:grpSpPr>
              <p:sp>
                <p:nvSpPr>
                  <p:cNvPr id="160" name="Oval 18"/>
                  <p:cNvSpPr/>
                  <p:nvPr/>
                </p:nvSpPr>
                <p:spPr>
                  <a:xfrm>
                    <a:off x="3878280" y="952560"/>
                    <a:ext cx="1295280" cy="1295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Text Box 19"/>
                  <p:cNvSpPr/>
                  <p:nvPr/>
                </p:nvSpPr>
                <p:spPr>
                  <a:xfrm>
                    <a:off x="4411800" y="110484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20"/>
                <p:cNvSpPr/>
                <p:nvPr/>
              </p:nvSpPr>
              <p:spPr>
                <a:xfrm>
                  <a:off x="1042920" y="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1"/>
              <p:cNvSpPr/>
              <p:nvPr/>
            </p:nvSpPr>
            <p:spPr>
              <a:xfrm>
                <a:off x="1912320" y="41400"/>
                <a:ext cx="318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观察⊙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与直线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的运动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2"/>
            <p:cNvGrpSpPr/>
            <p:nvPr/>
          </p:nvGrpSpPr>
          <p:grpSpPr>
            <a:xfrm>
              <a:off x="6240600" y="495360"/>
              <a:ext cx="1295280" cy="1295280"/>
              <a:chOff x="6240600" y="495360"/>
              <a:chExt cx="1295280" cy="1295280"/>
            </a:xfrm>
          </p:grpSpPr>
          <p:sp>
            <p:nvSpPr>
              <p:cNvPr id="165" name="Oval 23"/>
              <p:cNvSpPr/>
              <p:nvPr/>
            </p:nvSpPr>
            <p:spPr>
              <a:xfrm>
                <a:off x="6240600" y="495360"/>
                <a:ext cx="1295280" cy="1295280"/>
              </a:xfrm>
              <a:prstGeom prst="ellipse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6" name="Text Box 24"/>
              <p:cNvSpPr/>
              <p:nvPr/>
            </p:nvSpPr>
            <p:spPr>
              <a:xfrm>
                <a:off x="6773760" y="647640"/>
                <a:ext cx="228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33cc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27"/>
          <p:cNvSpPr/>
          <p:nvPr/>
        </p:nvSpPr>
        <p:spPr>
          <a:xfrm>
            <a:off x="860436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3924360" y="2349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403280" y="134136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4438800" y="1440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2524320" y="1341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95640" y="2349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220120" y="401328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直线和圆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唯一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公共点 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148520" y="4013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048040" y="3179880"/>
            <a:ext cx="41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直线与圆有两个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998360" y="44877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这时直线叫圆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719520" y="446724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切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7293240" y="3127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1052640" y="0"/>
            <a:ext cx="7483320" cy="2460600"/>
            <a:chOff x="1052640" y="0"/>
            <a:chExt cx="7483320" cy="2460600"/>
          </a:xfrm>
        </p:grpSpPr>
        <p:grpSp>
          <p:nvGrpSpPr>
            <p:cNvPr id="180" name="Group 12"/>
            <p:cNvGrpSpPr/>
            <p:nvPr/>
          </p:nvGrpSpPr>
          <p:grpSpPr>
            <a:xfrm>
              <a:off x="1052640" y="0"/>
              <a:ext cx="7483320" cy="2460600"/>
              <a:chOff x="1052640" y="0"/>
              <a:chExt cx="7483320" cy="2460600"/>
            </a:xfrm>
          </p:grpSpPr>
          <p:grpSp>
            <p:nvGrpSpPr>
              <p:cNvPr id="181" name="Group 13"/>
              <p:cNvGrpSpPr/>
              <p:nvPr/>
            </p:nvGrpSpPr>
            <p:grpSpPr>
              <a:xfrm>
                <a:off x="1052640" y="0"/>
                <a:ext cx="7483320" cy="2460600"/>
                <a:chOff x="1052640" y="0"/>
                <a:chExt cx="7483320" cy="2460600"/>
              </a:xfrm>
            </p:grpSpPr>
            <p:grpSp>
              <p:nvGrpSpPr>
                <p:cNvPr id="182" name="Group 14"/>
                <p:cNvGrpSpPr/>
                <p:nvPr/>
              </p:nvGrpSpPr>
              <p:grpSpPr>
                <a:xfrm>
                  <a:off x="1525680" y="1173240"/>
                  <a:ext cx="1295280" cy="1287360"/>
                  <a:chOff x="1525680" y="1173240"/>
                  <a:chExt cx="1295280" cy="1287360"/>
                </a:xfrm>
              </p:grpSpPr>
              <p:sp>
                <p:nvSpPr>
                  <p:cNvPr id="183" name="Oval 15"/>
                  <p:cNvSpPr/>
                  <p:nvPr/>
                </p:nvSpPr>
                <p:spPr>
                  <a:xfrm>
                    <a:off x="1525680" y="1173240"/>
                    <a:ext cx="1295280" cy="1287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Text Box 16"/>
                  <p:cNvSpPr/>
                  <p:nvPr/>
                </p:nvSpPr>
                <p:spPr>
                  <a:xfrm>
                    <a:off x="2058840" y="132408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Line 17"/>
                <p:cNvSpPr/>
                <p:nvPr/>
              </p:nvSpPr>
              <p:spPr>
                <a:xfrm>
                  <a:off x="1144440" y="2233440"/>
                  <a:ext cx="7391520" cy="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Group 18"/>
                <p:cNvGrpSpPr/>
                <p:nvPr/>
              </p:nvGrpSpPr>
              <p:grpSpPr>
                <a:xfrm>
                  <a:off x="3887640" y="946080"/>
                  <a:ext cx="1295640" cy="1287360"/>
                  <a:chOff x="3887640" y="946080"/>
                  <a:chExt cx="1295640" cy="1287360"/>
                </a:xfrm>
              </p:grpSpPr>
              <p:sp>
                <p:nvSpPr>
                  <p:cNvPr id="187" name="Oval 19"/>
                  <p:cNvSpPr/>
                  <p:nvPr/>
                </p:nvSpPr>
                <p:spPr>
                  <a:xfrm>
                    <a:off x="3887640" y="946080"/>
                    <a:ext cx="1295640" cy="1287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Text Box 20"/>
                  <p:cNvSpPr/>
                  <p:nvPr/>
                </p:nvSpPr>
                <p:spPr>
                  <a:xfrm>
                    <a:off x="4421160" y="109692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Text Box 21"/>
                <p:cNvSpPr/>
                <p:nvPr/>
              </p:nvSpPr>
              <p:spPr>
                <a:xfrm>
                  <a:off x="1052640" y="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22"/>
              <p:cNvSpPr/>
              <p:nvPr/>
            </p:nvSpPr>
            <p:spPr>
              <a:xfrm>
                <a:off x="1634040" y="189000"/>
                <a:ext cx="21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观察⊙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0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与直线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L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的运动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23"/>
            <p:cNvGrpSpPr/>
            <p:nvPr/>
          </p:nvGrpSpPr>
          <p:grpSpPr>
            <a:xfrm>
              <a:off x="6249960" y="492120"/>
              <a:ext cx="1295280" cy="1287360"/>
              <a:chOff x="6249960" y="492120"/>
              <a:chExt cx="1295280" cy="1287360"/>
            </a:xfrm>
          </p:grpSpPr>
          <p:sp>
            <p:nvSpPr>
              <p:cNvPr id="192" name="Oval 24"/>
              <p:cNvSpPr/>
              <p:nvPr/>
            </p:nvSpPr>
            <p:spPr>
              <a:xfrm>
                <a:off x="6249960" y="492120"/>
                <a:ext cx="1295280" cy="1287360"/>
              </a:xfrm>
              <a:prstGeom prst="ellipse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3" name="Text Box 25"/>
              <p:cNvSpPr/>
              <p:nvPr/>
            </p:nvSpPr>
            <p:spPr>
              <a:xfrm>
                <a:off x="6783480" y="642960"/>
                <a:ext cx="228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33cc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26"/>
          <p:cNvSpPr/>
          <p:nvPr/>
        </p:nvSpPr>
        <p:spPr>
          <a:xfrm>
            <a:off x="2129760" y="5013360"/>
            <a:ext cx="39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直线与圆没有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7152840" y="49784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离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1403280" y="134136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66080" y="1477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4380840" y="134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4305240" y="22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2556000" y="2290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7"/>
          <p:cNvSpPr/>
          <p:nvPr/>
        </p:nvSpPr>
        <p:spPr>
          <a:xfrm>
            <a:off x="2843280" y="4365720"/>
            <a:ext cx="167616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867280" y="4221000"/>
            <a:ext cx="167652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411280" y="1700280"/>
            <a:ext cx="167652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6300720" y="1700280"/>
            <a:ext cx="167652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2050920" y="3068640"/>
            <a:ext cx="2592360" cy="7308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H="1">
            <a:off x="7524360" y="3933720"/>
            <a:ext cx="71640" cy="2519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 flipH="1">
            <a:off x="3276720" y="4005360"/>
            <a:ext cx="1295280" cy="2087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H="1">
            <a:off x="7884720" y="1484280"/>
            <a:ext cx="865080" cy="251928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6937200" y="2205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6432480" y="4797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3336840" y="5013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2976480" y="22766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1888200" y="907920"/>
            <a:ext cx="33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看图判断直线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与 ⊙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的位置关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879120" y="26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运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0" y="0"/>
            <a:ext cx="4788000" cy="762120"/>
          </a:xfrm>
          <a:prstGeom prst="cloudCallout">
            <a:avLst>
              <a:gd name="adj1" fmla="val -35578"/>
              <a:gd name="adj2" fmla="val 520000"/>
            </a:avLst>
          </a:prstGeom>
          <a:solidFill>
            <a:srgbClr val="99c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问题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438280" y="1143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能否根据基本概念来判断直线与圆的位置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05740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直线与圆的公共点的个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0" y="0"/>
            <a:ext cx="5364000" cy="762120"/>
          </a:xfrm>
          <a:prstGeom prst="cloudCallout">
            <a:avLst>
              <a:gd name="adj1" fmla="val -37125"/>
              <a:gd name="adj2" fmla="val 520000"/>
            </a:avLst>
          </a:prstGeom>
          <a:solidFill>
            <a:srgbClr val="99c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问题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438280" y="1143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能否根据基本概念来判断直线与圆的位置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740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直线与圆的公共点的个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0" y="3809880"/>
            <a:ext cx="4788000" cy="762120"/>
          </a:xfrm>
          <a:prstGeom prst="cloudCallout">
            <a:avLst>
              <a:gd name="adj1" fmla="val -21254"/>
              <a:gd name="adj2" fmla="val 100000"/>
            </a:avLst>
          </a:prstGeom>
          <a:solidFill>
            <a:srgbClr val="99c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新的问题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979640" y="4941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是否还有其它的方法来判断直线与圆的位置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4475880" y="857160"/>
            <a:ext cx="713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、点与圆有几种位置关系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WordArt 3"/>
          <p:cNvSpPr txBox="1"/>
          <p:nvPr/>
        </p:nvSpPr>
        <p:spPr>
          <a:xfrm rot="1860000">
            <a:off x="1828440" y="74520"/>
            <a:ext cx="76212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782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782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23760"/>
            <a:ext cx="22096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复习提问：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3092400" y="1643040"/>
            <a:ext cx="1297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6480" y="3357720"/>
            <a:ext cx="713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、怎样判定点和圆的位置关系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53284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30244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07564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77072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454068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160520" y="1871640"/>
            <a:ext cx="681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377856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355176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3321000" y="1871640"/>
            <a:ext cx="483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294192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63736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9" name="Picture 18" descr="NekO2"/>
          <p:cNvPicPr/>
          <p:nvPr/>
        </p:nvPicPr>
        <p:blipFill>
          <a:blip r:embed="rId1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9"/>
          <p:cNvSpPr/>
          <p:nvPr/>
        </p:nvSpPr>
        <p:spPr>
          <a:xfrm>
            <a:off x="3580920" y="4167360"/>
            <a:ext cx="3133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）点到圆心的距离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半径时，点在圆外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）点到圆心的距离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半径时，点在圆上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）点到圆心的距离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半径时，点在圆内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4926600" y="414324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大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732200" y="4513320"/>
            <a:ext cx="946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等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4732200" y="4929120"/>
            <a:ext cx="946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小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9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3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10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479320" y="669960"/>
            <a:ext cx="43120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900" spc="-1" strike="noStrike">
                <a:solidFill>
                  <a:srgbClr val="6600cc"/>
                </a:solidFill>
                <a:latin typeface="Times New Roman"/>
              </a:rPr>
              <a:t>若将点改成直线 ，那么直线与圆的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6600cc"/>
                </a:solidFill>
                <a:latin typeface="Times New Roman"/>
              </a:rPr>
              <a:t>位置关系又如何呢？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Oval 3"/>
          <p:cNvSpPr/>
          <p:nvPr/>
        </p:nvSpPr>
        <p:spPr>
          <a:xfrm>
            <a:off x="3773520" y="3019320"/>
            <a:ext cx="121932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 flipH="1">
            <a:off x="2249280" y="50007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 flipH="1">
            <a:off x="2249280" y="492300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 flipH="1">
            <a:off x="2249280" y="47721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 flipH="1">
            <a:off x="2249280" y="45417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 flipH="1">
            <a:off x="2249280" y="43909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2249280" y="423864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 flipH="1">
            <a:off x="2249280" y="40845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2249280" y="39337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2249280" y="378000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2249280" y="36291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 flipH="1">
            <a:off x="2249280" y="347508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 flipH="1">
            <a:off x="2249280" y="32479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2249280" y="30193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2249280" y="27907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2249280" y="256068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231080" y="317196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406920" y="4390920"/>
            <a:ext cx="377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6438960" y="3824280"/>
            <a:ext cx="400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6364440" y="2867040"/>
            <a:ext cx="352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9900"/>
                </a:solidFill>
                <a:latin typeface="Times New Roman"/>
              </a:rPr>
              <a:t>c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WordArt 23"/>
          <p:cNvSpPr txBox="1"/>
          <p:nvPr/>
        </p:nvSpPr>
        <p:spPr>
          <a:xfrm>
            <a:off x="338040" y="357120"/>
            <a:ext cx="162252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一想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2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evt="end">
                                        <p:tn val="409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500"/>
                            </p:stCondLst>
                            <p:childTnLst>
                              <p:par>
                                <p:cTn id="4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500"/>
                            </p:stCondLst>
                            <p:childTnLst>
                              <p:par>
                                <p:cTn id="4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8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500"/>
                            </p:stCondLst>
                            <p:childTnLst>
                              <p:par>
                                <p:cTn id="4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057400" y="76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c0af2"/>
                </a:solidFill>
                <a:latin typeface="Arial"/>
                <a:ea typeface="隶书"/>
              </a:rPr>
              <a:t>直线与圆的位置关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114640" cy="1419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2076480" cy="1667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3"/>
          <a:stretch/>
        </p:blipFill>
        <p:spPr>
          <a:xfrm>
            <a:off x="914400" y="1066680"/>
            <a:ext cx="2085840" cy="1600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4"/>
          <a:stretch/>
        </p:blipFill>
        <p:spPr>
          <a:xfrm>
            <a:off x="914400" y="1066680"/>
            <a:ext cx="208584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"/>
          <p:cNvPicPr/>
          <p:nvPr/>
        </p:nvPicPr>
        <p:blipFill>
          <a:blip r:embed="rId5"/>
          <a:stretch/>
        </p:blipFill>
        <p:spPr>
          <a:xfrm>
            <a:off x="914400" y="2895480"/>
            <a:ext cx="2076480" cy="1667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"/>
          <p:cNvPicPr/>
          <p:nvPr/>
        </p:nvPicPr>
        <p:blipFill>
          <a:blip r:embed="rId6"/>
          <a:stretch/>
        </p:blipFill>
        <p:spPr>
          <a:xfrm>
            <a:off x="914400" y="4648320"/>
            <a:ext cx="2114640" cy="14191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6"/>
          <p:cNvSpPr/>
          <p:nvPr/>
        </p:nvSpPr>
        <p:spPr>
          <a:xfrm>
            <a:off x="3124080" y="20876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那么直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3124080" y="3657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那么直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3124080" y="51354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那么直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3200400" y="9907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圆心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到直线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距离，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⊙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半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Line 24"/>
          <p:cNvSpPr/>
          <p:nvPr/>
        </p:nvSpPr>
        <p:spPr>
          <a:xfrm>
            <a:off x="1828800" y="1752480"/>
            <a:ext cx="380880" cy="38124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1828800" y="3581280"/>
            <a:ext cx="457200" cy="30492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9810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1981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19810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Line 38"/>
          <p:cNvSpPr/>
          <p:nvPr/>
        </p:nvSpPr>
        <p:spPr>
          <a:xfrm>
            <a:off x="1752480" y="5334120"/>
            <a:ext cx="533520" cy="22860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2"/>
          <p:cNvSpPr/>
          <p:nvPr/>
        </p:nvSpPr>
        <p:spPr>
          <a:xfrm>
            <a:off x="1135080" y="227160"/>
            <a:ext cx="1905120" cy="19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3657600" y="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6219720" y="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992160" y="2666880"/>
            <a:ext cx="2590920" cy="0"/>
          </a:xfrm>
          <a:prstGeom prst="line">
            <a:avLst/>
          </a:prstGeom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3354480" y="1905120"/>
            <a:ext cx="2189160" cy="23760"/>
          </a:xfrm>
          <a:prstGeom prst="line">
            <a:avLst/>
          </a:prstGeom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6016680" y="1571760"/>
            <a:ext cx="2320920" cy="28440"/>
          </a:xfrm>
          <a:prstGeom prst="line">
            <a:avLst/>
          </a:prstGeom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1258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7118280" y="915840"/>
            <a:ext cx="0" cy="6843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2125800" y="1143000"/>
            <a:ext cx="608040" cy="762120"/>
          </a:xfrm>
          <a:prstGeom prst="line">
            <a:avLst/>
          </a:prstGeom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4648320" y="915840"/>
            <a:ext cx="838080" cy="454320"/>
          </a:xfrm>
          <a:prstGeom prst="line">
            <a:avLst/>
          </a:prstGeom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7118280" y="915840"/>
            <a:ext cx="685800" cy="684360"/>
          </a:xfrm>
          <a:prstGeom prst="line">
            <a:avLst/>
          </a:prstGeom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865160" y="152388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4311360" y="106668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6738480" y="99072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2019240" y="79200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7013520" y="56196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4543200" y="56196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2354760" y="1143000"/>
            <a:ext cx="27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Text Box 21"/>
          <p:cNvSpPr/>
          <p:nvPr/>
        </p:nvSpPr>
        <p:spPr>
          <a:xfrm>
            <a:off x="5105880" y="838080"/>
            <a:ext cx="27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7346880" y="776160"/>
            <a:ext cx="5493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Text Box 23"/>
          <p:cNvSpPr/>
          <p:nvPr/>
        </p:nvSpPr>
        <p:spPr>
          <a:xfrm>
            <a:off x="1947600" y="281952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相离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Text Box 24"/>
          <p:cNvSpPr/>
          <p:nvPr/>
        </p:nvSpPr>
        <p:spPr>
          <a:xfrm>
            <a:off x="3962520" y="2438280"/>
            <a:ext cx="10062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相切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Text Box 25"/>
          <p:cNvSpPr/>
          <p:nvPr/>
        </p:nvSpPr>
        <p:spPr>
          <a:xfrm>
            <a:off x="6940440" y="205884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相交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1492560" y="3500280"/>
            <a:ext cx="31885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离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d&gt;r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1492560" y="4297320"/>
            <a:ext cx="31885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切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d=r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1106640" y="5100480"/>
            <a:ext cx="45720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交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d&lt;r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29"/>
          <p:cNvSpPr/>
          <p:nvPr/>
        </p:nvSpPr>
        <p:spPr>
          <a:xfrm>
            <a:off x="3581280" y="3581280"/>
            <a:ext cx="33840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30"/>
          <p:cNvSpPr/>
          <p:nvPr/>
        </p:nvSpPr>
        <p:spPr>
          <a:xfrm>
            <a:off x="4878360" y="2362320"/>
            <a:ext cx="1827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看一看想一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31"/>
          <p:cNvSpPr/>
          <p:nvPr/>
        </p:nvSpPr>
        <p:spPr>
          <a:xfrm>
            <a:off x="6188040" y="3581280"/>
            <a:ext cx="1429920" cy="160668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当直线与圆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相离、相切、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相交时，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有何关系？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2125800" y="2438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2278080" y="24382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 flipH="1">
            <a:off x="4647960" y="167652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7118280" y="137016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7270920" y="1370160"/>
            <a:ext cx="0" cy="2300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3344760" y="243828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39"/>
          <p:cNvSpPr/>
          <p:nvPr/>
        </p:nvSpPr>
        <p:spPr>
          <a:xfrm>
            <a:off x="5543640" y="160020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40"/>
          <p:cNvSpPr/>
          <p:nvPr/>
        </p:nvSpPr>
        <p:spPr>
          <a:xfrm>
            <a:off x="8069400" y="160020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41"/>
          <p:cNvSpPr/>
          <p:nvPr/>
        </p:nvSpPr>
        <p:spPr>
          <a:xfrm>
            <a:off x="2643840" y="152388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 Box 42"/>
          <p:cNvSpPr/>
          <p:nvPr/>
        </p:nvSpPr>
        <p:spPr>
          <a:xfrm>
            <a:off x="1971720" y="1766880"/>
            <a:ext cx="5634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B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Text Box 43"/>
          <p:cNvSpPr/>
          <p:nvPr/>
        </p:nvSpPr>
        <p:spPr>
          <a:xfrm>
            <a:off x="4443840" y="1523880"/>
            <a:ext cx="395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 Box 44"/>
          <p:cNvSpPr/>
          <p:nvPr/>
        </p:nvSpPr>
        <p:spPr>
          <a:xfrm>
            <a:off x="5366520" y="99072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D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Text Box 45"/>
          <p:cNvSpPr/>
          <p:nvPr/>
        </p:nvSpPr>
        <p:spPr>
          <a:xfrm>
            <a:off x="6332760" y="1219320"/>
            <a:ext cx="4582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E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7775640" y="1233360"/>
            <a:ext cx="439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F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Text Box 47"/>
          <p:cNvSpPr/>
          <p:nvPr/>
        </p:nvSpPr>
        <p:spPr>
          <a:xfrm>
            <a:off x="7068240" y="1219320"/>
            <a:ext cx="5540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 N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Line 48"/>
          <p:cNvSpPr/>
          <p:nvPr/>
        </p:nvSpPr>
        <p:spPr>
          <a:xfrm>
            <a:off x="2125800" y="114300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Line 49"/>
          <p:cNvSpPr/>
          <p:nvPr/>
        </p:nvSpPr>
        <p:spPr>
          <a:xfrm>
            <a:off x="2125800" y="1143000"/>
            <a:ext cx="608040" cy="7621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Line 50"/>
          <p:cNvSpPr/>
          <p:nvPr/>
        </p:nvSpPr>
        <p:spPr>
          <a:xfrm>
            <a:off x="2128680" y="1194480"/>
            <a:ext cx="144720" cy="9651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Line 51"/>
          <p:cNvSpPr/>
          <p:nvPr/>
        </p:nvSpPr>
        <p:spPr>
          <a:xfrm>
            <a:off x="2125800" y="1143000"/>
            <a:ext cx="0" cy="9907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Line 52"/>
          <p:cNvSpPr/>
          <p:nvPr/>
        </p:nvSpPr>
        <p:spPr>
          <a:xfrm>
            <a:off x="2120400" y="1137600"/>
            <a:ext cx="313920" cy="92520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Line 53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Line 54"/>
          <p:cNvSpPr/>
          <p:nvPr/>
        </p:nvSpPr>
        <p:spPr>
          <a:xfrm>
            <a:off x="4648320" y="915840"/>
            <a:ext cx="838080" cy="4543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Line 55"/>
          <p:cNvSpPr/>
          <p:nvPr/>
        </p:nvSpPr>
        <p:spPr>
          <a:xfrm>
            <a:off x="4662360" y="934920"/>
            <a:ext cx="657360" cy="6447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Line 56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Line 57"/>
          <p:cNvSpPr/>
          <p:nvPr/>
        </p:nvSpPr>
        <p:spPr>
          <a:xfrm>
            <a:off x="4660560" y="970200"/>
            <a:ext cx="560880" cy="7012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Line 58"/>
          <p:cNvSpPr/>
          <p:nvPr/>
        </p:nvSpPr>
        <p:spPr>
          <a:xfrm>
            <a:off x="7118280" y="915840"/>
            <a:ext cx="0" cy="6843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Line 59"/>
          <p:cNvSpPr/>
          <p:nvPr/>
        </p:nvSpPr>
        <p:spPr>
          <a:xfrm>
            <a:off x="7118280" y="915840"/>
            <a:ext cx="762120" cy="6843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Line 60"/>
          <p:cNvSpPr/>
          <p:nvPr/>
        </p:nvSpPr>
        <p:spPr>
          <a:xfrm>
            <a:off x="7114680" y="909360"/>
            <a:ext cx="312120" cy="9244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Line 61"/>
          <p:cNvSpPr/>
          <p:nvPr/>
        </p:nvSpPr>
        <p:spPr>
          <a:xfrm>
            <a:off x="7120080" y="887760"/>
            <a:ext cx="176040" cy="10695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Line 62"/>
          <p:cNvSpPr/>
          <p:nvPr/>
        </p:nvSpPr>
        <p:spPr>
          <a:xfrm>
            <a:off x="7150320" y="950400"/>
            <a:ext cx="569520" cy="7966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Line 63"/>
          <p:cNvSpPr/>
          <p:nvPr/>
        </p:nvSpPr>
        <p:spPr>
          <a:xfrm>
            <a:off x="7118280" y="915840"/>
            <a:ext cx="0" cy="9892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Line 64"/>
          <p:cNvSpPr/>
          <p:nvPr/>
        </p:nvSpPr>
        <p:spPr>
          <a:xfrm>
            <a:off x="4633920" y="937440"/>
            <a:ext cx="393480" cy="8431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Line 65"/>
          <p:cNvSpPr/>
          <p:nvPr/>
        </p:nvSpPr>
        <p:spPr>
          <a:xfrm>
            <a:off x="4615920" y="919800"/>
            <a:ext cx="249840" cy="93600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 Box 66"/>
          <p:cNvSpPr/>
          <p:nvPr/>
        </p:nvSpPr>
        <p:spPr>
          <a:xfrm>
            <a:off x="1757880" y="225576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 Box 67"/>
          <p:cNvSpPr/>
          <p:nvPr/>
        </p:nvSpPr>
        <p:spPr>
          <a:xfrm>
            <a:off x="6739200" y="144792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Q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5"/>
                                      </p:cond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evt="end">
                                        <p:tn val="499"/>
                                      </p:cond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evt="end">
                                        <p:tn val="526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30"/>
                                      </p:cond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evt="end">
                                        <p:tn val="534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evt="end">
                                        <p:tn val="538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9" dur="1" fill="hold">
                                    <p:stCondLst>
                                      <p:cond evt="end">
                                        <p:tn val="557"/>
                                      </p:cond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evt="end">
                                        <p:tn val="561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evt="end">
                                        <p:tn val="565"/>
                                      </p:cond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evt="end">
                                        <p:tn val="569"/>
                                      </p:cond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u=550390604,4182061918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1000" y="2600280"/>
            <a:ext cx="1720800" cy="148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u=252046449,1615101952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598840"/>
            <a:ext cx="1676520" cy="149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67057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地平线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781680" y="5105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地平线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8" descr="u=871686972,1880720882&amp;gp=0">
            <a:hlinkClick r:id="rId5"/>
          </p:cNvPr>
          <p:cNvPicPr/>
          <p:nvPr/>
        </p:nvPicPr>
        <p:blipFill>
          <a:blip r:embed="rId6"/>
          <a:srcRect l="0" t="0" r="0" b="9922"/>
          <a:stretch/>
        </p:blipFill>
        <p:spPr>
          <a:xfrm>
            <a:off x="5148360" y="2600280"/>
            <a:ext cx="1633320" cy="1471680"/>
          </a:xfrm>
          <a:prstGeom prst="rect">
            <a:avLst/>
          </a:prstGeom>
          <a:ln w="0">
            <a:noFill/>
          </a:ln>
        </p:spPr>
      </p:pic>
      <p:sp>
        <p:nvSpPr>
          <p:cNvPr id="88" name="Line 9"/>
          <p:cNvSpPr/>
          <p:nvPr/>
        </p:nvSpPr>
        <p:spPr>
          <a:xfrm>
            <a:off x="954000" y="3274920"/>
            <a:ext cx="5778720" cy="0"/>
          </a:xfrm>
          <a:prstGeom prst="line">
            <a:avLst/>
          </a:prstGeom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1087560" y="5332320"/>
            <a:ext cx="5778360" cy="0"/>
          </a:xfrm>
          <a:prstGeom prst="line">
            <a:avLst/>
          </a:prstGeom>
          <a:ln w="9360">
            <a:solidFill>
              <a:srgbClr val="7d7d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1447920" y="4775040"/>
            <a:ext cx="1015920" cy="935280"/>
            <a:chOff x="1447920" y="4775040"/>
            <a:chExt cx="1015920" cy="935280"/>
          </a:xfrm>
        </p:grpSpPr>
        <p:sp>
          <p:nvSpPr>
            <p:cNvPr id="91" name="Oval 12"/>
            <p:cNvSpPr/>
            <p:nvPr/>
          </p:nvSpPr>
          <p:spPr>
            <a:xfrm>
              <a:off x="1447920" y="4775040"/>
              <a:ext cx="1015920" cy="85464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>
              <a:off x="1895400" y="50983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3708360" y="4317840"/>
            <a:ext cx="1015920" cy="935280"/>
            <a:chOff x="3708360" y="4317840"/>
            <a:chExt cx="1015920" cy="935280"/>
          </a:xfrm>
        </p:grpSpPr>
        <p:sp>
          <p:nvSpPr>
            <p:cNvPr id="94" name="Oval 15"/>
            <p:cNvSpPr/>
            <p:nvPr/>
          </p:nvSpPr>
          <p:spPr>
            <a:xfrm>
              <a:off x="3708360" y="4317840"/>
              <a:ext cx="1015920" cy="85464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4156200" y="46411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" name="Group 17"/>
          <p:cNvGrpSpPr/>
          <p:nvPr/>
        </p:nvGrpSpPr>
        <p:grpSpPr>
          <a:xfrm>
            <a:off x="5486400" y="4114800"/>
            <a:ext cx="1015920" cy="934920"/>
            <a:chOff x="5486400" y="4114800"/>
            <a:chExt cx="1015920" cy="934920"/>
          </a:xfrm>
        </p:grpSpPr>
        <p:sp>
          <p:nvSpPr>
            <p:cNvPr id="97" name="Oval 18"/>
            <p:cNvSpPr/>
            <p:nvPr/>
          </p:nvSpPr>
          <p:spPr>
            <a:xfrm>
              <a:off x="5486400" y="4114800"/>
              <a:ext cx="1015920" cy="8542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5934240" y="44377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9" name="Rectangle 20"/>
          <p:cNvSpPr/>
          <p:nvPr/>
        </p:nvSpPr>
        <p:spPr>
          <a:xfrm>
            <a:off x="1627560" y="1773360"/>
            <a:ext cx="582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观察三幅太阳升起的照片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地平线与太阳的位置关系是怎样的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2694240" y="450720"/>
            <a:ext cx="40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直线与</a:t>
            </a:r>
            <a:r>
              <a:rPr b="1" lang="zh-CN" sz="4800" spc="-1" strike="noStrike">
                <a:solidFill>
                  <a:srgbClr val="cc0066"/>
                </a:solidFill>
                <a:latin typeface="Times New Roman"/>
              </a:rPr>
              <a:t>圆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的位置关系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；；；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253400" y="285840"/>
            <a:ext cx="214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3399ff"/>
                </a:solidFill>
                <a:latin typeface="Times New Roman"/>
                <a:ea typeface="华文彩云"/>
              </a:rPr>
              <a:t>练   习  （一）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24360" y="404640"/>
            <a:ext cx="921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填空：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879480" y="1066680"/>
            <a:ext cx="7639200" cy="30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半径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5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3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则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位置关系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_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公共点个数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半径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4cm,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4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则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位置关系是 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 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直线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与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公共点个数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2" name="Picture 5" descr="BD00028_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300800" y="428760"/>
            <a:ext cx="863640" cy="844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6932520" y="642960"/>
            <a:ext cx="22114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zh-CN" sz="2500" spc="-1" strike="noStrike">
                <a:solidFill>
                  <a:srgbClr val="ff0000"/>
                </a:solidFill>
                <a:latin typeface="Times New Roman"/>
              </a:rPr>
              <a:t>动动脑筋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672200" y="2133720"/>
            <a:ext cx="712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交  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971640" y="4076640"/>
            <a:ext cx="12967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1099080" y="270828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两个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7451640" y="4149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971640" y="472428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已知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直径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6cm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到直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距离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4cm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则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与直线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位置关系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_____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2411280" y="5805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相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2057400" cy="10969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2514600" y="380880"/>
            <a:ext cx="3124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练习（二）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948320" y="1428840"/>
            <a:ext cx="54061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设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半径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点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到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距离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若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与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至多只有一个公共点，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     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≤4     B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＜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  C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≥4    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798200" y="3429000"/>
            <a:ext cx="526032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设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半径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cm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上一点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到圆心的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距离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cm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则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与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位置关系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……………………………………………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   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交  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切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离 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切或相交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7543800" y="1752480"/>
            <a:ext cx="4492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7013520" y="4214880"/>
            <a:ext cx="433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6" name="Picture 8" descr="NekO2"/>
          <p:cNvPicPr/>
          <p:nvPr/>
        </p:nvPicPr>
        <p:blipFill>
          <a:blip r:embed="rId2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"/>
          <p:cNvPicPr/>
          <p:nvPr/>
        </p:nvPicPr>
        <p:blipFill>
          <a:blip r:embed="rId3"/>
          <a:stretch/>
        </p:blipFill>
        <p:spPr>
          <a:xfrm>
            <a:off x="990720" y="5257800"/>
            <a:ext cx="2514600" cy="1487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"/>
          <p:cNvPicPr/>
          <p:nvPr/>
        </p:nvPicPr>
        <p:blipFill>
          <a:blip r:embed="rId4"/>
          <a:stretch/>
        </p:blipFill>
        <p:spPr>
          <a:xfrm>
            <a:off x="4343400" y="5284800"/>
            <a:ext cx="2590920" cy="126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xs03gif332"/>
          <p:cNvPicPr/>
          <p:nvPr/>
        </p:nvPicPr>
        <p:blipFill>
          <a:blip r:embed="rId1"/>
          <a:stretch/>
        </p:blipFill>
        <p:spPr>
          <a:xfrm>
            <a:off x="380880" y="152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304920" y="457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c0af2"/>
                </a:solidFill>
                <a:latin typeface="Arial"/>
                <a:ea typeface="隶书"/>
              </a:rPr>
              <a:t>说说收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289548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0af2"/>
                </a:solidFill>
                <a:latin typeface="Arial"/>
              </a:rPr>
              <a:t>直线与圆的位置关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1219320"/>
          <a:ext cx="8458200" cy="5099040"/>
        </p:xfrm>
        <a:graphic>
          <a:graphicData uri="http://schemas.openxmlformats.org/drawingml/2006/table">
            <a:tbl>
              <a:tblPr/>
              <a:tblGrid>
                <a:gridCol w="2286000"/>
                <a:gridCol w="2046240"/>
                <a:gridCol w="1992240"/>
                <a:gridCol w="2133720"/>
              </a:tblGrid>
              <a:tr h="966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直线与圆的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位置关系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交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切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离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1696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图       形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公共点个数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公共点名称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直线名称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圆心到直线距离</a:t>
                      </a:r>
                      <a:r>
                        <a:rPr b="1" lang="en-US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d</a:t>
                      </a: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与半径</a:t>
                      </a:r>
                      <a:r>
                        <a:rPr b="1" lang="en-US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r</a:t>
                      </a: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的关系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42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2143080" cy="1685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3" descr=""/>
          <p:cNvPicPr/>
          <p:nvPr/>
        </p:nvPicPr>
        <p:blipFill>
          <a:blip r:embed="rId3"/>
          <a:stretch/>
        </p:blipFill>
        <p:spPr>
          <a:xfrm>
            <a:off x="4724280" y="2133720"/>
            <a:ext cx="2152800" cy="1704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4" descr=""/>
          <p:cNvPicPr/>
          <p:nvPr/>
        </p:nvPicPr>
        <p:blipFill>
          <a:blip r:embed="rId4"/>
          <a:stretch/>
        </p:blipFill>
        <p:spPr>
          <a:xfrm>
            <a:off x="6781680" y="2133720"/>
            <a:ext cx="2105280" cy="15714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5"/>
          <p:cNvSpPr/>
          <p:nvPr/>
        </p:nvSpPr>
        <p:spPr>
          <a:xfrm>
            <a:off x="335268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Text Box 46"/>
          <p:cNvSpPr/>
          <p:nvPr/>
        </p:nvSpPr>
        <p:spPr>
          <a:xfrm>
            <a:off x="3276720" y="441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交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Text Box 48"/>
          <p:cNvSpPr/>
          <p:nvPr/>
        </p:nvSpPr>
        <p:spPr>
          <a:xfrm>
            <a:off x="5334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5334120" y="4419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533412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切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 flipV="1">
            <a:off x="6781680" y="4419360"/>
            <a:ext cx="2133720" cy="53316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V="1">
            <a:off x="6781680" y="4952880"/>
            <a:ext cx="2133720" cy="53352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Text Box 53"/>
          <p:cNvSpPr/>
          <p:nvPr/>
        </p:nvSpPr>
        <p:spPr>
          <a:xfrm>
            <a:off x="32767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&lt; 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Text Box 54"/>
          <p:cNvSpPr/>
          <p:nvPr/>
        </p:nvSpPr>
        <p:spPr>
          <a:xfrm>
            <a:off x="53341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= 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Text Box 55"/>
          <p:cNvSpPr/>
          <p:nvPr/>
        </p:nvSpPr>
        <p:spPr>
          <a:xfrm>
            <a:off x="73915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&gt; 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73915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没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AutoShape 57"/>
          <p:cNvSpPr/>
          <p:nvPr/>
        </p:nvSpPr>
        <p:spPr>
          <a:xfrm>
            <a:off x="8229600" y="457200"/>
            <a:ext cx="428760" cy="487440"/>
          </a:xfrm>
          <a:custGeom>
            <a:avLst/>
            <a:gdLst>
              <a:gd name="textAreaLeft" fmla="*/ 57240 w 428760"/>
              <a:gd name="textAreaRight" fmla="*/ 371520 w 428760"/>
              <a:gd name="textAreaTop" fmla="*/ 85680 h 487440"/>
              <a:gd name="textAreaBottom" fmla="*/ 352080 h 48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976"/>
                <a:lnTo>
                  <a:pt x="14401" y="21165"/>
                </a:lnTo>
                <a:lnTo>
                  <a:pt x="21600" y="17300"/>
                </a:lnTo>
                <a:lnTo>
                  <a:pt x="14401" y="12565"/>
                </a:lnTo>
                <a:lnTo>
                  <a:pt x="14401" y="14765"/>
                </a:lnTo>
                <a:arcTo wR="21600" hR="7600" stAng="8108024" swAng="2345390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1001880" y="260280"/>
            <a:ext cx="8136360" cy="3786840"/>
            <a:chOff x="1001880" y="260280"/>
            <a:chExt cx="8136360" cy="3786840"/>
          </a:xfrm>
        </p:grpSpPr>
        <p:grpSp>
          <p:nvGrpSpPr>
            <p:cNvPr id="389" name="Group 3"/>
            <p:cNvGrpSpPr/>
            <p:nvPr/>
          </p:nvGrpSpPr>
          <p:grpSpPr>
            <a:xfrm>
              <a:off x="1001880" y="260280"/>
              <a:ext cx="7188840" cy="1388520"/>
              <a:chOff x="1001880" y="260280"/>
              <a:chExt cx="7188840" cy="1388520"/>
            </a:xfrm>
          </p:grpSpPr>
          <p:grpSp>
            <p:nvGrpSpPr>
              <p:cNvPr id="390" name="Group 4"/>
              <p:cNvGrpSpPr/>
              <p:nvPr/>
            </p:nvGrpSpPr>
            <p:grpSpPr>
              <a:xfrm>
                <a:off x="1001880" y="260280"/>
                <a:ext cx="1488960" cy="459720"/>
                <a:chOff x="1001880" y="260280"/>
                <a:chExt cx="1488960" cy="459720"/>
              </a:xfrm>
            </p:grpSpPr>
            <p:sp>
              <p:nvSpPr>
                <p:cNvPr id="391" name="AutoShape 5"/>
                <p:cNvSpPr/>
                <p:nvPr/>
              </p:nvSpPr>
              <p:spPr>
                <a:xfrm>
                  <a:off x="2262240" y="414360"/>
                  <a:ext cx="228600" cy="155520"/>
                </a:xfrm>
                <a:prstGeom prst="flowChartExtract">
                  <a:avLst/>
                </a:prstGeom>
                <a:noFill/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6"/>
                <p:cNvSpPr/>
                <p:nvPr/>
              </p:nvSpPr>
              <p:spPr>
                <a:xfrm>
                  <a:off x="1001880" y="260280"/>
                  <a:ext cx="116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例</a:t>
                  </a: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、在</a:t>
                  </a: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Rt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7"/>
              <p:cNvSpPr/>
              <p:nvPr/>
            </p:nvSpPr>
            <p:spPr>
              <a:xfrm>
                <a:off x="2666160" y="260280"/>
                <a:ext cx="503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BC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中，∠ 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C=90°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C=3cm, BC= 4cm, 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4" name="Text Box 8"/>
              <p:cNvSpPr/>
              <p:nvPr/>
            </p:nvSpPr>
            <p:spPr>
              <a:xfrm>
                <a:off x="3901320" y="800280"/>
                <a:ext cx="4289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圆心，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为半径的圆与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B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有怎样的位置关系？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5" name="Rectangle 9"/>
              <p:cNvSpPr/>
              <p:nvPr/>
            </p:nvSpPr>
            <p:spPr>
              <a:xfrm>
                <a:off x="1840320" y="8002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则以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C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为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6" name="Rectangle 10"/>
              <p:cNvSpPr/>
              <p:nvPr/>
            </p:nvSpPr>
            <p:spPr>
              <a:xfrm>
                <a:off x="1714320" y="1189080"/>
                <a:ext cx="50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(1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）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r =2cm,   (2) r =2.4cm    (3) r =3cm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1"/>
            <p:cNvGrpSpPr/>
            <p:nvPr/>
          </p:nvGrpSpPr>
          <p:grpSpPr>
            <a:xfrm>
              <a:off x="6069600" y="1391400"/>
              <a:ext cx="3068640" cy="2655720"/>
              <a:chOff x="6069600" y="1391400"/>
              <a:chExt cx="3068640" cy="2655720"/>
            </a:xfrm>
          </p:grpSpPr>
          <p:grpSp>
            <p:nvGrpSpPr>
              <p:cNvPr id="398" name="Group 12"/>
              <p:cNvGrpSpPr/>
              <p:nvPr/>
            </p:nvGrpSpPr>
            <p:grpSpPr>
              <a:xfrm>
                <a:off x="6069600" y="1391400"/>
                <a:ext cx="3068640" cy="2655720"/>
                <a:chOff x="6069600" y="1391400"/>
                <a:chExt cx="3068640" cy="2655720"/>
              </a:xfrm>
            </p:grpSpPr>
            <p:sp>
              <p:nvSpPr>
                <p:cNvPr id="399" name="AutoShape 13"/>
                <p:cNvSpPr/>
                <p:nvPr/>
              </p:nvSpPr>
              <p:spPr>
                <a:xfrm flipV="1" rot="2073000">
                  <a:off x="6558120" y="2284200"/>
                  <a:ext cx="1947960" cy="1327320"/>
                </a:xfrm>
                <a:prstGeom prst="rtTriangle">
                  <a:avLst/>
                </a:prstGeom>
                <a:noFill/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4"/>
                <p:cNvSpPr/>
                <p:nvPr/>
              </p:nvSpPr>
              <p:spPr>
                <a:xfrm rot="70200">
                  <a:off x="7029720" y="13950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1" name="Text Box 15"/>
                <p:cNvSpPr/>
                <p:nvPr/>
              </p:nvSpPr>
              <p:spPr>
                <a:xfrm rot="70200">
                  <a:off x="6073920" y="26110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2" name="Text Box 16"/>
                <p:cNvSpPr/>
                <p:nvPr/>
              </p:nvSpPr>
              <p:spPr>
                <a:xfrm rot="70200">
                  <a:off x="8749800" y="27018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Text Box 17"/>
              <p:cNvSpPr/>
              <p:nvPr/>
            </p:nvSpPr>
            <p:spPr>
              <a:xfrm rot="70200">
                <a:off x="6481800" y="2021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4" name="Text Box 18"/>
              <p:cNvSpPr/>
              <p:nvPr/>
            </p:nvSpPr>
            <p:spPr>
              <a:xfrm rot="70200">
                <a:off x="7776720" y="20498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Group 23"/>
          <p:cNvGrpSpPr/>
          <p:nvPr/>
        </p:nvGrpSpPr>
        <p:grpSpPr>
          <a:xfrm>
            <a:off x="1144440" y="3200400"/>
            <a:ext cx="4911840" cy="478800"/>
            <a:chOff x="1144440" y="3200400"/>
            <a:chExt cx="4911840" cy="478800"/>
          </a:xfrm>
        </p:grpSpPr>
        <p:sp>
          <p:nvSpPr>
            <p:cNvPr id="406" name="Text Box 24"/>
            <p:cNvSpPr/>
            <p:nvPr/>
          </p:nvSpPr>
          <p:spPr>
            <a:xfrm>
              <a:off x="1144440" y="32194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Rectangle 25"/>
            <p:cNvSpPr/>
            <p:nvPr/>
          </p:nvSpPr>
          <p:spPr>
            <a:xfrm>
              <a:off x="1600200" y="3200400"/>
              <a:ext cx="4456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08" name="Object 27" descr=""/>
          <p:cNvPicPr/>
          <p:nvPr/>
        </p:nvPicPr>
        <p:blipFill>
          <a:blip r:embed="rId1"/>
          <a:stretch/>
        </p:blipFill>
        <p:spPr>
          <a:xfrm>
            <a:off x="-3868560" y="2286000"/>
            <a:ext cx="723600" cy="4064040"/>
          </a:xfrm>
          <a:prstGeom prst="rect">
            <a:avLst/>
          </a:prstGeom>
          <a:ln w="0">
            <a:noFill/>
          </a:ln>
        </p:spPr>
      </p:pic>
    </p:spTree>
  </p:cSld>
  <p:transition advTm="34000">
    <p:cover dir="rd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2"/>
          <p:cNvGrpSpPr/>
          <p:nvPr/>
        </p:nvGrpSpPr>
        <p:grpSpPr>
          <a:xfrm>
            <a:off x="992880" y="304920"/>
            <a:ext cx="8148960" cy="3615120"/>
            <a:chOff x="992880" y="304920"/>
            <a:chExt cx="8148960" cy="3615120"/>
          </a:xfrm>
        </p:grpSpPr>
        <p:sp>
          <p:nvSpPr>
            <p:cNvPr id="410" name="Text Box 3"/>
            <p:cNvSpPr/>
            <p:nvPr/>
          </p:nvSpPr>
          <p:spPr>
            <a:xfrm>
              <a:off x="3005640" y="685800"/>
              <a:ext cx="328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圆心，</a:t>
              </a: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为半径的圆与</a:t>
              </a: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AB</a:t>
              </a: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有怎样的位置关系？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11" name="Group 4"/>
            <p:cNvGrpSpPr/>
            <p:nvPr/>
          </p:nvGrpSpPr>
          <p:grpSpPr>
            <a:xfrm>
              <a:off x="992880" y="304920"/>
              <a:ext cx="8148960" cy="3615120"/>
              <a:chOff x="992880" y="304920"/>
              <a:chExt cx="8148960" cy="3615120"/>
            </a:xfrm>
          </p:grpSpPr>
          <p:sp>
            <p:nvSpPr>
              <p:cNvPr id="412" name="AutoShape 5"/>
              <p:cNvSpPr/>
              <p:nvPr/>
            </p:nvSpPr>
            <p:spPr>
              <a:xfrm>
                <a:off x="2286000" y="372960"/>
                <a:ext cx="228600" cy="127080"/>
              </a:xfrm>
              <a:prstGeom prst="flowChartExtra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13" name="Group 6"/>
              <p:cNvGrpSpPr/>
              <p:nvPr/>
            </p:nvGrpSpPr>
            <p:grpSpPr>
              <a:xfrm>
                <a:off x="992880" y="304920"/>
                <a:ext cx="8148960" cy="3615120"/>
                <a:chOff x="992880" y="304920"/>
                <a:chExt cx="8148960" cy="3615120"/>
              </a:xfrm>
            </p:grpSpPr>
            <p:grpSp>
              <p:nvGrpSpPr>
                <p:cNvPr id="414" name="Group 7"/>
                <p:cNvGrpSpPr/>
                <p:nvPr/>
              </p:nvGrpSpPr>
              <p:grpSpPr>
                <a:xfrm>
                  <a:off x="992880" y="304920"/>
                  <a:ext cx="5616720" cy="1130040"/>
                  <a:chOff x="992880" y="304920"/>
                  <a:chExt cx="5616720" cy="1130040"/>
                </a:xfrm>
              </p:grpSpPr>
              <p:sp>
                <p:nvSpPr>
                  <p:cNvPr id="415" name="Text Box 8"/>
                  <p:cNvSpPr/>
                  <p:nvPr/>
                </p:nvSpPr>
                <p:spPr>
                  <a:xfrm>
                    <a:off x="992880" y="304920"/>
                    <a:ext cx="942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例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1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、在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Rt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Text Box 9"/>
                  <p:cNvSpPr/>
                  <p:nvPr/>
                </p:nvSpPr>
                <p:spPr>
                  <a:xfrm>
                    <a:off x="2704680" y="304920"/>
                    <a:ext cx="39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ABC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中，∠ 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C=90°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，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AC=3cm, BC= 4cm, 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Rectangle 10"/>
                  <p:cNvSpPr/>
                  <p:nvPr/>
                </p:nvSpPr>
                <p:spPr>
                  <a:xfrm>
                    <a:off x="1478160" y="685800"/>
                    <a:ext cx="866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则以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C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为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Rectangle 11"/>
                  <p:cNvSpPr/>
                  <p:nvPr/>
                </p:nvSpPr>
                <p:spPr>
                  <a:xfrm>
                    <a:off x="1382400" y="1066680"/>
                    <a:ext cx="396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(1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）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r =2cm,   (2) r =2.4cm    (3)r=3cm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12"/>
                <p:cNvGrpSpPr/>
                <p:nvPr/>
              </p:nvGrpSpPr>
              <p:grpSpPr>
                <a:xfrm>
                  <a:off x="6081480" y="1371600"/>
                  <a:ext cx="3060360" cy="2548440"/>
                  <a:chOff x="6081480" y="1371600"/>
                  <a:chExt cx="3060360" cy="2548440"/>
                </a:xfrm>
              </p:grpSpPr>
              <p:grpSp>
                <p:nvGrpSpPr>
                  <p:cNvPr id="420" name="Group 13"/>
                  <p:cNvGrpSpPr/>
                  <p:nvPr/>
                </p:nvGrpSpPr>
                <p:grpSpPr>
                  <a:xfrm>
                    <a:off x="6081480" y="1371600"/>
                    <a:ext cx="3060360" cy="2548440"/>
                    <a:chOff x="6081480" y="1371600"/>
                    <a:chExt cx="3060360" cy="2548440"/>
                  </a:xfrm>
                </p:grpSpPr>
                <p:sp>
                  <p:nvSpPr>
                    <p:cNvPr id="421" name="AutoShape 14"/>
                    <p:cNvSpPr/>
                    <p:nvPr/>
                  </p:nvSpPr>
                  <p:spPr>
                    <a:xfrm flipV="1" rot="2002800">
                      <a:off x="6567480" y="2216880"/>
                      <a:ext cx="1947960" cy="1271880"/>
                    </a:xfrm>
                    <a:prstGeom prst="rtTriangle">
                      <a:avLst/>
                    </a:prstGeom>
                    <a:noFill/>
                    <a:ln w="936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Text Box 15"/>
                    <p:cNvSpPr/>
                    <p:nvPr/>
                  </p:nvSpPr>
                  <p:spPr>
                    <a:xfrm>
                      <a:off x="7012080" y="1371600"/>
                      <a:ext cx="383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Text Box 16"/>
                    <p:cNvSpPr/>
                    <p:nvPr/>
                  </p:nvSpPr>
                  <p:spPr>
                    <a:xfrm>
                      <a:off x="6081480" y="2556000"/>
                      <a:ext cx="400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Text Box 17"/>
                    <p:cNvSpPr/>
                    <p:nvPr/>
                  </p:nvSpPr>
                  <p:spPr>
                    <a:xfrm>
                      <a:off x="8758440" y="2590920"/>
                      <a:ext cx="383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5" name="Text Box 18"/>
                  <p:cNvSpPr/>
                  <p:nvPr/>
                </p:nvSpPr>
                <p:spPr>
                  <a:xfrm>
                    <a:off x="6477120" y="1981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Text Box 19"/>
                  <p:cNvSpPr/>
                  <p:nvPr/>
                </p:nvSpPr>
                <p:spPr>
                  <a:xfrm>
                    <a:off x="7772400" y="198108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7" name="Line 20"/>
            <p:cNvSpPr/>
            <p:nvPr/>
          </p:nvSpPr>
          <p:spPr>
            <a:xfrm>
              <a:off x="7086600" y="1828800"/>
              <a:ext cx="0" cy="106668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Text Box 21"/>
            <p:cNvSpPr/>
            <p:nvPr/>
          </p:nvSpPr>
          <p:spPr>
            <a:xfrm>
              <a:off x="6859440" y="281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1053720" y="2286000"/>
            <a:ext cx="4850280" cy="1015920"/>
            <a:chOff x="1053720" y="2286000"/>
            <a:chExt cx="4850280" cy="1015920"/>
          </a:xfrm>
        </p:grpSpPr>
        <p:sp>
          <p:nvSpPr>
            <p:cNvPr id="430" name="Text Box 23"/>
            <p:cNvSpPr/>
            <p:nvPr/>
          </p:nvSpPr>
          <p:spPr>
            <a:xfrm>
              <a:off x="1053720" y="23047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∵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1447920" y="2286000"/>
              <a:ext cx="4456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∠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C=90°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C=3cm, BC= 4cm,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32" name="Rectangle 25"/>
          <p:cNvSpPr/>
          <p:nvPr/>
        </p:nvSpPr>
        <p:spPr>
          <a:xfrm>
            <a:off x="914400" y="1676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解： 过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点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D⊥AB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垂足为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978840" y="26668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∴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B = 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34" name="Group 27"/>
          <p:cNvGrpSpPr/>
          <p:nvPr/>
        </p:nvGrpSpPr>
        <p:grpSpPr>
          <a:xfrm>
            <a:off x="1064880" y="2819520"/>
            <a:ext cx="4826880" cy="990360"/>
            <a:chOff x="1064880" y="2819520"/>
            <a:chExt cx="4826880" cy="990360"/>
          </a:xfrm>
        </p:grpSpPr>
        <p:pic>
          <p:nvPicPr>
            <p:cNvPr id="435" name="Object 28" descr=""/>
            <p:cNvPicPr/>
            <p:nvPr/>
          </p:nvPicPr>
          <p:blipFill>
            <a:blip r:embed="rId1"/>
            <a:stretch/>
          </p:blipFill>
          <p:spPr>
            <a:xfrm>
              <a:off x="4267080" y="2819520"/>
              <a:ext cx="35424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6" name="Group 29"/>
            <p:cNvGrpSpPr/>
            <p:nvPr/>
          </p:nvGrpSpPr>
          <p:grpSpPr>
            <a:xfrm>
              <a:off x="1064880" y="2895480"/>
              <a:ext cx="4826880" cy="914400"/>
              <a:chOff x="1064880" y="2895480"/>
              <a:chExt cx="4826880" cy="914400"/>
            </a:xfrm>
          </p:grpSpPr>
          <p:pic>
            <p:nvPicPr>
              <p:cNvPr id="437" name="Object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2895480"/>
                <a:ext cx="353880" cy="914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Group 31"/>
              <p:cNvGrpSpPr/>
              <p:nvPr/>
            </p:nvGrpSpPr>
            <p:grpSpPr>
              <a:xfrm>
                <a:off x="1064880" y="2971800"/>
                <a:ext cx="4826880" cy="613800"/>
                <a:chOff x="1064880" y="2971800"/>
                <a:chExt cx="4826880" cy="613800"/>
              </a:xfrm>
            </p:grpSpPr>
            <p:grpSp>
              <p:nvGrpSpPr>
                <p:cNvPr id="439" name="Group 32"/>
                <p:cNvGrpSpPr/>
                <p:nvPr/>
              </p:nvGrpSpPr>
              <p:grpSpPr>
                <a:xfrm>
                  <a:off x="1064880" y="2971800"/>
                  <a:ext cx="1648800" cy="613440"/>
                  <a:chOff x="1064880" y="2971800"/>
                  <a:chExt cx="1648800" cy="613440"/>
                </a:xfrm>
              </p:grpSpPr>
              <p:sp>
                <p:nvSpPr>
                  <p:cNvPr id="440" name="Rectangle 33"/>
                  <p:cNvSpPr/>
                  <p:nvPr/>
                </p:nvSpPr>
                <p:spPr>
                  <a:xfrm>
                    <a:off x="1064880" y="2971800"/>
                    <a:ext cx="6181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∵</a:t>
                    </a:r>
                    <a:r>
                      <a:rPr b="1" lang="en-US" sz="32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S</a:t>
                    </a:r>
                    <a:endParaRPr b="0" lang="en-US" sz="32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Rectangle 34"/>
                  <p:cNvSpPr/>
                  <p:nvPr/>
                </p:nvSpPr>
                <p:spPr>
                  <a:xfrm>
                    <a:off x="1773720" y="3278160"/>
                    <a:ext cx="939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ABC</a:t>
                    </a:r>
                    <a:endParaRPr b="0" lang="en-US" sz="1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AutoShape 35"/>
                  <p:cNvSpPr/>
                  <p:nvPr/>
                </p:nvSpPr>
                <p:spPr>
                  <a:xfrm>
                    <a:off x="1617120" y="3354480"/>
                    <a:ext cx="234720" cy="759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3" name="Text Box 36"/>
                <p:cNvSpPr/>
                <p:nvPr/>
              </p:nvSpPr>
              <p:spPr>
                <a:xfrm>
                  <a:off x="2250000" y="312588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4" name="Text Box 37"/>
                <p:cNvSpPr/>
                <p:nvPr/>
              </p:nvSpPr>
              <p:spPr>
                <a:xfrm>
                  <a:off x="2854800" y="3090960"/>
                  <a:ext cx="189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C×BC= 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38"/>
                <p:cNvSpPr/>
                <p:nvPr/>
              </p:nvSpPr>
              <p:spPr>
                <a:xfrm>
                  <a:off x="4676400" y="3014640"/>
                  <a:ext cx="121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B×CD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6" name="Rectangle 39"/>
          <p:cNvSpPr/>
          <p:nvPr/>
        </p:nvSpPr>
        <p:spPr>
          <a:xfrm>
            <a:off x="1131120" y="365760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×4 = 5×C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47" name="Group 40"/>
          <p:cNvGrpSpPr/>
          <p:nvPr/>
        </p:nvGrpSpPr>
        <p:grpSpPr>
          <a:xfrm>
            <a:off x="1143000" y="4038480"/>
            <a:ext cx="1781280" cy="762120"/>
            <a:chOff x="1143000" y="4038480"/>
            <a:chExt cx="1781280" cy="762120"/>
          </a:xfrm>
        </p:grpSpPr>
        <p:sp>
          <p:nvSpPr>
            <p:cNvPr id="448" name="Rectangle 41"/>
            <p:cNvSpPr/>
            <p:nvPr/>
          </p:nvSpPr>
          <p:spPr>
            <a:xfrm>
              <a:off x="11430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1754280" y="4156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CD =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50" name="Object 43" descr=""/>
            <p:cNvPicPr/>
            <p:nvPr/>
          </p:nvPicPr>
          <p:blipFill>
            <a:blip r:embed="rId3"/>
            <a:stretch/>
          </p:blipFill>
          <p:spPr>
            <a:xfrm>
              <a:off x="2530440" y="4038480"/>
              <a:ext cx="393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Group 44"/>
          <p:cNvGrpSpPr/>
          <p:nvPr/>
        </p:nvGrpSpPr>
        <p:grpSpPr>
          <a:xfrm>
            <a:off x="4064760" y="4114800"/>
            <a:ext cx="1334520" cy="494640"/>
            <a:chOff x="4064760" y="4114800"/>
            <a:chExt cx="1334520" cy="494640"/>
          </a:xfrm>
        </p:grpSpPr>
        <p:sp>
          <p:nvSpPr>
            <p:cNvPr id="452" name="Text Box 45"/>
            <p:cNvSpPr/>
            <p:nvPr/>
          </p:nvSpPr>
          <p:spPr>
            <a:xfrm>
              <a:off x="4589280" y="41497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= 2.4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Text Box 46"/>
            <p:cNvSpPr/>
            <p:nvPr/>
          </p:nvSpPr>
          <p:spPr>
            <a:xfrm>
              <a:off x="4064760" y="4114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即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4" name="Group 47"/>
          <p:cNvGrpSpPr/>
          <p:nvPr/>
        </p:nvGrpSpPr>
        <p:grpSpPr>
          <a:xfrm>
            <a:off x="1509120" y="4724280"/>
            <a:ext cx="5329800" cy="462960"/>
            <a:chOff x="1509120" y="4724280"/>
            <a:chExt cx="5329800" cy="462960"/>
          </a:xfrm>
        </p:grpSpPr>
        <p:sp>
          <p:nvSpPr>
            <p:cNvPr id="455" name="Rectangle 48"/>
            <p:cNvSpPr/>
            <p:nvPr/>
          </p:nvSpPr>
          <p:spPr>
            <a:xfrm>
              <a:off x="1509120" y="4727520"/>
              <a:ext cx="32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 =2cm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, d &gt; r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56" name="Group 49"/>
            <p:cNvGrpSpPr/>
            <p:nvPr/>
          </p:nvGrpSpPr>
          <p:grpSpPr>
            <a:xfrm>
              <a:off x="4800600" y="4724280"/>
              <a:ext cx="2038320" cy="462960"/>
              <a:chOff x="4800600" y="4724280"/>
              <a:chExt cx="2038320" cy="462960"/>
            </a:xfrm>
          </p:grpSpPr>
          <p:sp>
            <p:nvSpPr>
              <p:cNvPr id="457" name="Rectangle 50"/>
              <p:cNvSpPr/>
              <p:nvPr/>
            </p:nvSpPr>
            <p:spPr>
              <a:xfrm>
                <a:off x="4800600" y="4724280"/>
                <a:ext cx="4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∴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8" name="Rectangle 51"/>
              <p:cNvSpPr/>
              <p:nvPr/>
            </p:nvSpPr>
            <p:spPr>
              <a:xfrm>
                <a:off x="5358240" y="4727520"/>
                <a:ext cx="14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圆与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AB</a:t>
                </a: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相离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2"/>
          <p:cNvGrpSpPr/>
          <p:nvPr/>
        </p:nvGrpSpPr>
        <p:grpSpPr>
          <a:xfrm>
            <a:off x="1282680" y="5638680"/>
            <a:ext cx="5404680" cy="536040"/>
            <a:chOff x="1282680" y="5638680"/>
            <a:chExt cx="5404680" cy="536040"/>
          </a:xfrm>
        </p:grpSpPr>
        <p:sp>
          <p:nvSpPr>
            <p:cNvPr id="460" name="Rectangle 53"/>
            <p:cNvSpPr/>
            <p:nvPr/>
          </p:nvSpPr>
          <p:spPr>
            <a:xfrm>
              <a:off x="1282680" y="5638680"/>
              <a:ext cx="34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 =3 cm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, d &lt;  r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Rectangle 54"/>
            <p:cNvSpPr/>
            <p:nvPr/>
          </p:nvSpPr>
          <p:spPr>
            <a:xfrm>
              <a:off x="4650840" y="5715000"/>
              <a:ext cx="4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Rectangle 55"/>
            <p:cNvSpPr/>
            <p:nvPr/>
          </p:nvSpPr>
          <p:spPr>
            <a:xfrm>
              <a:off x="5206680" y="571500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圆与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相交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3" name="Group 56"/>
          <p:cNvGrpSpPr/>
          <p:nvPr/>
        </p:nvGrpSpPr>
        <p:grpSpPr>
          <a:xfrm>
            <a:off x="1282680" y="5181480"/>
            <a:ext cx="5404680" cy="459720"/>
            <a:chOff x="1282680" y="5181480"/>
            <a:chExt cx="5404680" cy="459720"/>
          </a:xfrm>
        </p:grpSpPr>
        <p:sp>
          <p:nvSpPr>
            <p:cNvPr id="464" name="Rectangle 57"/>
            <p:cNvSpPr/>
            <p:nvPr/>
          </p:nvSpPr>
          <p:spPr>
            <a:xfrm>
              <a:off x="1282680" y="5181480"/>
              <a:ext cx="35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 =2.4cm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, d = r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Rectangle 58"/>
            <p:cNvSpPr/>
            <p:nvPr/>
          </p:nvSpPr>
          <p:spPr>
            <a:xfrm>
              <a:off x="4650840" y="5181480"/>
              <a:ext cx="4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Rectangle 59"/>
            <p:cNvSpPr/>
            <p:nvPr/>
          </p:nvSpPr>
          <p:spPr>
            <a:xfrm>
              <a:off x="5206680" y="518148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圆与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相切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67" name="Picture 60" descr=""/>
          <p:cNvPicPr/>
          <p:nvPr/>
        </p:nvPicPr>
        <p:blipFill>
          <a:blip r:embed="rId4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8" name="Oval 61"/>
          <p:cNvSpPr/>
          <p:nvPr/>
        </p:nvSpPr>
        <p:spPr>
          <a:xfrm>
            <a:off x="6443640" y="1125360"/>
            <a:ext cx="1297080" cy="1368720"/>
          </a:xfrm>
          <a:prstGeom prst="ellipse">
            <a:avLst/>
          </a:prstGeom>
          <a:solidFill>
            <a:srgbClr val="ffffff">
              <a:alpha val="5000"/>
            </a:srgbClr>
          </a:solidFill>
          <a:ln w="158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8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99640" y="1752480"/>
            <a:ext cx="26856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圆心</a:t>
            </a: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到</a:t>
            </a: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轴、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轴的距离各是多少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874800" y="609480"/>
            <a:ext cx="1830240" cy="74628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4"/>
          <p:cNvSpPr/>
          <p:nvPr/>
        </p:nvSpPr>
        <p:spPr>
          <a:xfrm>
            <a:off x="1036800" y="304920"/>
            <a:ext cx="1600200" cy="524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练习：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5414040" y="437688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705040" y="304920"/>
            <a:ext cx="534852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已知⊙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的直径为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，点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的坐标为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-3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-4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），则⊙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与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轴的位置关系是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,⊙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与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轴的位置关系是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_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 flipV="1">
            <a:off x="5486400" y="3370320"/>
            <a:ext cx="0" cy="137304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5486400" y="4743360"/>
            <a:ext cx="1065240" cy="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5715000" y="3370320"/>
            <a:ext cx="0" cy="23004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6402240" y="4513320"/>
            <a:ext cx="0" cy="23004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Line 11"/>
          <p:cNvSpPr/>
          <p:nvPr/>
        </p:nvSpPr>
        <p:spPr>
          <a:xfrm flipH="1">
            <a:off x="5486040" y="3600360"/>
            <a:ext cx="228600" cy="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Line 12"/>
          <p:cNvSpPr/>
          <p:nvPr/>
        </p:nvSpPr>
        <p:spPr>
          <a:xfrm flipH="1">
            <a:off x="6401880" y="4513320"/>
            <a:ext cx="227160" cy="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5124600" y="3827520"/>
            <a:ext cx="325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5810400" y="4667400"/>
            <a:ext cx="325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82" name="Group 15"/>
          <p:cNvGrpSpPr/>
          <p:nvPr/>
        </p:nvGrpSpPr>
        <p:grpSpPr>
          <a:xfrm>
            <a:off x="3581280" y="2000160"/>
            <a:ext cx="3957120" cy="3962520"/>
            <a:chOff x="3581280" y="2000160"/>
            <a:chExt cx="3957120" cy="3962520"/>
          </a:xfrm>
        </p:grpSpPr>
        <p:sp>
          <p:nvSpPr>
            <p:cNvPr id="483" name="Text Box 16"/>
            <p:cNvSpPr/>
            <p:nvPr/>
          </p:nvSpPr>
          <p:spPr>
            <a:xfrm>
              <a:off x="6248880" y="3309840"/>
              <a:ext cx="39564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0160"/>
                  <a:tab algn="l" pos="1660680"/>
                  <a:tab algn="l" pos="2490840"/>
                  <a:tab algn="l" pos="3321000"/>
                  <a:tab algn="l" pos="4151160"/>
                  <a:tab algn="l" pos="4981680"/>
                  <a:tab algn="l" pos="5811840"/>
                  <a:tab algn="l" pos="6642000"/>
                  <a:tab algn="l" pos="7472520"/>
                  <a:tab algn="l" pos="8302680"/>
                  <a:tab algn="l" pos="9132840"/>
                  <a:tab algn="l" pos="9963000"/>
                  <a:tab algn="l" pos="10793520"/>
                </a:tabLst>
              </a:pPr>
              <a:r>
                <a:rPr b="0" lang="en-US" sz="2500" spc="-1" strike="noStrike">
                  <a:solidFill>
                    <a:srgbClr val="0033cc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84" name="Group 17"/>
            <p:cNvGrpSpPr/>
            <p:nvPr/>
          </p:nvGrpSpPr>
          <p:grpSpPr>
            <a:xfrm>
              <a:off x="3581280" y="3295800"/>
              <a:ext cx="3957120" cy="618840"/>
              <a:chOff x="3581280" y="3295800"/>
              <a:chExt cx="3957120" cy="618840"/>
            </a:xfrm>
          </p:grpSpPr>
          <p:sp>
            <p:nvSpPr>
              <p:cNvPr id="485" name="Line 18"/>
              <p:cNvSpPr/>
              <p:nvPr/>
            </p:nvSpPr>
            <p:spPr>
              <a:xfrm>
                <a:off x="3581280" y="3381480"/>
                <a:ext cx="380556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6" name="Line 19"/>
              <p:cNvSpPr/>
              <p:nvPr/>
            </p:nvSpPr>
            <p:spPr>
              <a:xfrm>
                <a:off x="4875120" y="3914640"/>
                <a:ext cx="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7" name="Line 20"/>
              <p:cNvSpPr/>
              <p:nvPr/>
            </p:nvSpPr>
            <p:spPr>
              <a:xfrm>
                <a:off x="502740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8" name="Line 21"/>
              <p:cNvSpPr/>
              <p:nvPr/>
            </p:nvSpPr>
            <p:spPr>
              <a:xfrm>
                <a:off x="548388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9" name="Line 22"/>
              <p:cNvSpPr/>
              <p:nvPr/>
            </p:nvSpPr>
            <p:spPr>
              <a:xfrm>
                <a:off x="586440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0" name="Line 23"/>
              <p:cNvSpPr/>
              <p:nvPr/>
            </p:nvSpPr>
            <p:spPr>
              <a:xfrm>
                <a:off x="624528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1" name="Text Box 24"/>
              <p:cNvSpPr/>
              <p:nvPr/>
            </p:nvSpPr>
            <p:spPr>
              <a:xfrm>
                <a:off x="7142760" y="3295800"/>
                <a:ext cx="39564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160" rIns="8316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30160"/>
                    <a:tab algn="l" pos="1660680"/>
                    <a:tab algn="l" pos="2490840"/>
                    <a:tab algn="l" pos="3321000"/>
                    <a:tab algn="l" pos="4151160"/>
                    <a:tab algn="l" pos="4981680"/>
                    <a:tab algn="l" pos="5811840"/>
                    <a:tab algn="l" pos="6642000"/>
                    <a:tab algn="l" pos="7472520"/>
                    <a:tab algn="l" pos="8302680"/>
                    <a:tab algn="l" pos="9132840"/>
                    <a:tab algn="l" pos="9963000"/>
                    <a:tab algn="l" pos="10793520"/>
                  </a:tabLst>
                </a:pPr>
                <a:r>
                  <a:rPr b="0" lang="en-US" sz="25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endParaRPr b="0" lang="en-US" sz="25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25"/>
            <p:cNvGrpSpPr/>
            <p:nvPr/>
          </p:nvGrpSpPr>
          <p:grpSpPr>
            <a:xfrm>
              <a:off x="6246000" y="2000160"/>
              <a:ext cx="395640" cy="3351240"/>
              <a:chOff x="6246000" y="2000160"/>
              <a:chExt cx="395640" cy="3351240"/>
            </a:xfrm>
          </p:grpSpPr>
          <p:sp>
            <p:nvSpPr>
              <p:cNvPr id="493" name="Line 26"/>
              <p:cNvSpPr/>
              <p:nvPr/>
            </p:nvSpPr>
            <p:spPr>
              <a:xfrm flipV="1">
                <a:off x="6621480" y="2381400"/>
                <a:ext cx="0" cy="297000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4" name="Line 27"/>
              <p:cNvSpPr/>
              <p:nvPr/>
            </p:nvSpPr>
            <p:spPr>
              <a:xfrm>
                <a:off x="6546600" y="375120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5" name="Line 28"/>
              <p:cNvSpPr/>
              <p:nvPr/>
            </p:nvSpPr>
            <p:spPr>
              <a:xfrm>
                <a:off x="6546600" y="405612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6" name="Line 29"/>
              <p:cNvSpPr/>
              <p:nvPr/>
            </p:nvSpPr>
            <p:spPr>
              <a:xfrm>
                <a:off x="6546600" y="474192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7" name="Line 30"/>
              <p:cNvSpPr/>
              <p:nvPr/>
            </p:nvSpPr>
            <p:spPr>
              <a:xfrm>
                <a:off x="6546600" y="443700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8" name="Text Box 31"/>
              <p:cNvSpPr/>
              <p:nvPr/>
            </p:nvSpPr>
            <p:spPr>
              <a:xfrm>
                <a:off x="6246000" y="2000160"/>
                <a:ext cx="39564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160" rIns="8316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30160"/>
                    <a:tab algn="l" pos="1660680"/>
                    <a:tab algn="l" pos="2490840"/>
                    <a:tab algn="l" pos="3321000"/>
                    <a:tab algn="l" pos="4151160"/>
                    <a:tab algn="l" pos="4981680"/>
                    <a:tab algn="l" pos="5811840"/>
                    <a:tab algn="l" pos="6642000"/>
                    <a:tab algn="l" pos="7472520"/>
                    <a:tab algn="l" pos="8302680"/>
                    <a:tab algn="l" pos="9132840"/>
                    <a:tab algn="l" pos="9963000"/>
                    <a:tab algn="l" pos="10793520"/>
                  </a:tabLst>
                </a:pPr>
                <a:r>
                  <a:rPr b="0" lang="en-US" sz="2500" spc="-1" strike="noStrike">
                    <a:solidFill>
                      <a:srgbClr val="0033cc"/>
                    </a:solidFill>
                    <a:latin typeface="Times New Roman"/>
                  </a:rPr>
                  <a:t>Y</a:t>
                </a:r>
                <a:endParaRPr b="0" lang="en-US" sz="25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499" name="Text Box 32"/>
            <p:cNvSpPr/>
            <p:nvPr/>
          </p:nvSpPr>
          <p:spPr>
            <a:xfrm>
              <a:off x="5356440" y="2684520"/>
              <a:ext cx="3787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0160"/>
                  <a:tab algn="l" pos="1660680"/>
                  <a:tab algn="l" pos="2490840"/>
                  <a:tab algn="l" pos="3321000"/>
                  <a:tab algn="l" pos="4151160"/>
                  <a:tab algn="l" pos="4981680"/>
                  <a:tab algn="l" pos="5811840"/>
                  <a:tab algn="l" pos="6642000"/>
                  <a:tab algn="l" pos="7472520"/>
                  <a:tab algn="l" pos="8302680"/>
                  <a:tab algn="l" pos="9132840"/>
                  <a:tab algn="l" pos="9963000"/>
                  <a:tab algn="l" pos="1079352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Text Box 33"/>
            <p:cNvSpPr/>
            <p:nvPr/>
          </p:nvSpPr>
          <p:spPr>
            <a:xfrm>
              <a:off x="6728040" y="4362480"/>
              <a:ext cx="3787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0160"/>
                  <a:tab algn="l" pos="1660680"/>
                  <a:tab algn="l" pos="2490840"/>
                  <a:tab algn="l" pos="3321000"/>
                  <a:tab algn="l" pos="4151160"/>
                  <a:tab algn="l" pos="4981680"/>
                  <a:tab algn="l" pos="5811840"/>
                  <a:tab algn="l" pos="6642000"/>
                  <a:tab algn="l" pos="7472520"/>
                  <a:tab algn="l" pos="8302680"/>
                  <a:tab algn="l" pos="9132840"/>
                  <a:tab algn="l" pos="9963000"/>
                  <a:tab algn="l" pos="1079352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Oval 34"/>
            <p:cNvSpPr/>
            <p:nvPr/>
          </p:nvSpPr>
          <p:spPr>
            <a:xfrm>
              <a:off x="4327560" y="3676680"/>
              <a:ext cx="2286000" cy="2286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02" name="Text Box 35"/>
          <p:cNvSpPr/>
          <p:nvPr/>
        </p:nvSpPr>
        <p:spPr>
          <a:xfrm>
            <a:off x="2708280" y="885960"/>
            <a:ext cx="6091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Times New Roman"/>
              </a:rPr>
              <a:t>相离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427800" y="857160"/>
            <a:ext cx="6091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500"/>
                            </p:stCondLst>
                            <p:childTnLst>
                              <p:par>
                                <p:cTn id="8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10" name="Group 8"/>
          <p:cNvGrpSpPr/>
          <p:nvPr/>
        </p:nvGrpSpPr>
        <p:grpSpPr>
          <a:xfrm>
            <a:off x="684360" y="1557360"/>
            <a:ext cx="8762760" cy="4437000"/>
            <a:chOff x="684360" y="1557360"/>
            <a:chExt cx="8762760" cy="4437000"/>
          </a:xfrm>
        </p:grpSpPr>
        <p:sp>
          <p:nvSpPr>
            <p:cNvPr id="511" name="Text Box 9"/>
            <p:cNvSpPr/>
            <p:nvPr/>
          </p:nvSpPr>
          <p:spPr>
            <a:xfrm>
              <a:off x="684360" y="1557360"/>
              <a:ext cx="876276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、识别直线与圆的位置关系的方法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）一种是根据定义进行识别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没有公共点  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离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只有一个公共点  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切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两个公共点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交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）另一种是根据圆心到直线的距离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与圆半径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数量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比较来进行识别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&gt;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离；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=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切；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&lt;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交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12" name="Group 10"/>
            <p:cNvGrpSpPr/>
            <p:nvPr/>
          </p:nvGrpSpPr>
          <p:grpSpPr>
            <a:xfrm>
              <a:off x="1635120" y="2386080"/>
              <a:ext cx="3960720" cy="3292560"/>
              <a:chOff x="1635120" y="2386080"/>
              <a:chExt cx="3960720" cy="3292560"/>
            </a:xfrm>
          </p:grpSpPr>
          <p:pic>
            <p:nvPicPr>
              <p:cNvPr id="513" name="Object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443480" y="2386080"/>
                <a:ext cx="576360" cy="41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019840" y="2828880"/>
                <a:ext cx="576000" cy="41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87840" y="3271680"/>
                <a:ext cx="5745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Objec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5120" y="4380840"/>
                <a:ext cx="5763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35120" y="4824000"/>
                <a:ext cx="574560" cy="41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5120" y="5266800"/>
                <a:ext cx="576360" cy="41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9" name="Text Box 17"/>
          <p:cNvSpPr/>
          <p:nvPr/>
        </p:nvSpPr>
        <p:spPr>
          <a:xfrm>
            <a:off x="2786400" y="685800"/>
            <a:ext cx="28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直线与圆的位置关系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种：相离、相切和相交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WordArt 18"/>
          <p:cNvSpPr txBox="1"/>
          <p:nvPr/>
        </p:nvSpPr>
        <p:spPr>
          <a:xfrm>
            <a:off x="5435640" y="4437000"/>
            <a:ext cx="324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梳理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755640" y="59500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作业：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98280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直线与圆的位置关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7057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地平线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954000" y="3274920"/>
            <a:ext cx="5778720" cy="0"/>
          </a:xfrm>
          <a:prstGeom prst="line">
            <a:avLst/>
          </a:prstGeom>
          <a:ln w="9360">
            <a:solidFill>
              <a:srgbClr val="7d7d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1447920" y="1955880"/>
            <a:ext cx="1015920" cy="934920"/>
            <a:chOff x="1447920" y="1955880"/>
            <a:chExt cx="1015920" cy="934920"/>
          </a:xfrm>
        </p:grpSpPr>
        <p:sp>
          <p:nvSpPr>
            <p:cNvPr id="105" name="Oval 8"/>
            <p:cNvSpPr/>
            <p:nvPr/>
          </p:nvSpPr>
          <p:spPr>
            <a:xfrm>
              <a:off x="1447920" y="1955880"/>
              <a:ext cx="1015920" cy="8542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895400" y="227880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7" name="Group 10"/>
          <p:cNvGrpSpPr/>
          <p:nvPr/>
        </p:nvGrpSpPr>
        <p:grpSpPr>
          <a:xfrm>
            <a:off x="3327480" y="2241720"/>
            <a:ext cx="1015920" cy="934920"/>
            <a:chOff x="3327480" y="2241720"/>
            <a:chExt cx="1015920" cy="934920"/>
          </a:xfrm>
        </p:grpSpPr>
        <p:sp>
          <p:nvSpPr>
            <p:cNvPr id="108" name="Oval 11"/>
            <p:cNvSpPr/>
            <p:nvPr/>
          </p:nvSpPr>
          <p:spPr>
            <a:xfrm>
              <a:off x="3327480" y="2241720"/>
              <a:ext cx="1015920" cy="8542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3774960" y="256464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0" name="Group 13"/>
          <p:cNvGrpSpPr/>
          <p:nvPr/>
        </p:nvGrpSpPr>
        <p:grpSpPr>
          <a:xfrm>
            <a:off x="5156280" y="2489040"/>
            <a:ext cx="1015920" cy="935280"/>
            <a:chOff x="5156280" y="2489040"/>
            <a:chExt cx="1015920" cy="935280"/>
          </a:xfrm>
        </p:grpSpPr>
        <p:sp>
          <p:nvSpPr>
            <p:cNvPr id="111" name="Oval 14"/>
            <p:cNvSpPr/>
            <p:nvPr/>
          </p:nvSpPr>
          <p:spPr>
            <a:xfrm>
              <a:off x="5156280" y="2489040"/>
              <a:ext cx="1015920" cy="85464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5603760" y="28123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13" name="Picture 16" descr="u=2355435148,623365983&amp;gp=2">
            <a:hlinkClick r:id="rId1"/>
          </p:cNvPr>
          <p:cNvPicPr/>
          <p:nvPr/>
        </p:nvPicPr>
        <p:blipFill>
          <a:blip r:embed="rId2"/>
          <a:srcRect l="0" t="9324" r="0" b="15918"/>
          <a:stretch/>
        </p:blipFill>
        <p:spPr>
          <a:xfrm>
            <a:off x="1282680" y="4917960"/>
            <a:ext cx="1722600" cy="1136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0" y="400536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观察三幅太阳落山的照片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地平线与太阳的位置关系是怎样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368280" y="6159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你发现这个自然现象反映出直线和圆的位置关系有哪几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Picture 22" descr="u=3967490318,378844405&amp;gp=0">
            <a:hlinkClick r:id="rId3"/>
          </p:cNvPr>
          <p:cNvPicPr/>
          <p:nvPr/>
        </p:nvPicPr>
        <p:blipFill>
          <a:blip r:embed="rId4"/>
          <a:srcRect l="0" t="0" r="0" b="23276"/>
          <a:stretch/>
        </p:blipFill>
        <p:spPr>
          <a:xfrm>
            <a:off x="3416400" y="4863960"/>
            <a:ext cx="1523880" cy="1165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u=3101737032,4011013635&amp;gp=1">
            <a:hlinkClick r:id="rId5"/>
          </p:cNvPr>
          <p:cNvPicPr/>
          <p:nvPr/>
        </p:nvPicPr>
        <p:blipFill>
          <a:blip r:embed="rId6"/>
          <a:srcRect l="0" t="27706" r="0" b="0"/>
          <a:stretch/>
        </p:blipFill>
        <p:spPr>
          <a:xfrm>
            <a:off x="5321160" y="4830840"/>
            <a:ext cx="16243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4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250920" y="386064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132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986200" y="4202280"/>
            <a:ext cx="3885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为了大家能看的更清楚些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以蓝线为水平线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圆圈为太阳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注意观察</a:t>
            </a:r>
            <a:r>
              <a:rPr b="0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!!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；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autoRev="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27647E-006 C 0.0415 -0.11812 0.08316 -0.23647 0.14132 -0.31738 C 0.19966 -0.39852 0.26945 -0.46833 0.34931 -0.48613 C 0.42934 -0.50393 0.53681 -0.51317 0.6217 -0.42441 C 0.70643 -0.33541 0.81893 -0.03051 0.85851 0.04832 E">
                                      <p:cBhvr>
                                        <p:cTn id="80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76364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963440" y="2173320"/>
            <a:ext cx="466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请大家把直线和圆的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公共点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个数情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总结一下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并把相应的图形画出来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949040" y="2924280"/>
            <a:ext cx="560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总体看来应该有下列</a:t>
            </a: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三种</a:t>
            </a:r>
            <a:r>
              <a:rPr b="0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情况</a:t>
            </a:r>
            <a:r>
              <a:rPr b="0" lang="en-US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: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-=0-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4"/>
          <p:cNvSpPr/>
          <p:nvPr/>
        </p:nvSpPr>
        <p:spPr>
          <a:xfrm>
            <a:off x="324000" y="3213000"/>
            <a:ext cx="795636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2050920" y="479736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923200" y="1413000"/>
            <a:ext cx="24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一个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公共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4239E-006 L 2.5E-006 -0.2203 E">
                                      <p:cBhvr>
                                        <p:cTn id="9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324000" y="3213000"/>
            <a:ext cx="795636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050920" y="328464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133800" y="1268280"/>
            <a:ext cx="2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两个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77393E-008 L 2.5E-006 -0.18863 E">
                                      <p:cBhvr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>
            <a:off x="324000" y="3213000"/>
            <a:ext cx="795636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2050920" y="177336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913480" y="4653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直线和圆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没有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·····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4239E-006 L 2.5E-006 -0.2203 E">
                                      <p:cBhvr>
                                        <p:cTn id="11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51:34Z</dcterms:created>
  <dc:creator/>
  <dc:description/>
  <dc:language>en-US</dc:language>
  <cp:lastModifiedBy>Administrator</cp:lastModifiedBy>
  <dcterms:modified xsi:type="dcterms:W3CDTF">2018-12-29T03:51:57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